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E4B3E-3F60-447A-8F54-EC8D0055A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8E02B-1F47-4739-858D-EAF5F9C92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0E92D-7EBB-4C31-A1EA-E3A43A72F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D32FB-9CB1-4CA7-A289-1E52237FE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76000" y="2399040"/>
            <a:ext cx="7667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1FCB4-1DD0-4B04-BDBF-6DECE66A9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C35C0-0248-44E3-BD1A-75996837A1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476000" y="2399040"/>
            <a:ext cx="7667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CCCFC-D327-4200-B6F3-10B756E9BB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C42DF-9A2E-404D-AA3D-21F028133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2399040"/>
            <a:ext cx="7667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88CE9-7F77-4DD7-ABC5-22B19F5F8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965ED-4F51-41EC-B5DF-21036BB1C2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88760-9E02-4DAE-A804-CC874DB0F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024D5-C47C-479D-B1EC-BF25E0172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58920" y="115920"/>
            <a:ext cx="0" cy="865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258920" y="117360"/>
            <a:ext cx="0" cy="86544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809640" cy="371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Font typeface="Times New Roman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32280"/>
            <a:ext cx="81723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091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244000" y="6597360"/>
            <a:ext cx="7668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b091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89A8-CE14-4EF6-92D3-C734987E34AB}" type="slidenum">
              <a:rPr b="1" lang="en-US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220920" y="5084640"/>
            <a:ext cx="5743800" cy="7920"/>
            <a:chOff x="3220920" y="5084640"/>
            <a:chExt cx="5743800" cy="7920"/>
          </a:xfrm>
        </p:grpSpPr>
        <p:sp>
          <p:nvSpPr>
            <p:cNvPr id="44" name=""/>
            <p:cNvSpPr/>
            <p:nvPr/>
          </p:nvSpPr>
          <p:spPr>
            <a:xfrm>
              <a:off x="3220920" y="5092560"/>
              <a:ext cx="57438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220920" y="5084640"/>
              <a:ext cx="574380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08000" y="177840"/>
            <a:ext cx="809640" cy="371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71640" y="115920"/>
            <a:ext cx="0" cy="8650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spcAft>
                <a:spcPts val="45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0917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0917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b0917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cc0000"/>
              </a:buClr>
              <a:buFont typeface="Arial"/>
              <a:buChar char="∙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77080" y="-2160"/>
            <a:ext cx="2266920" cy="1739880"/>
          </a:xfrm>
          <a:prstGeom prst="rect">
            <a:avLst/>
          </a:prstGeom>
          <a:blipFill rotWithShape="0">
            <a:blip r:embed="rId3">
              <a:alphaModFix amt="59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Это место оставлять пусты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348000" y="2997360"/>
            <a:ext cx="4923000" cy="7920"/>
            <a:chOff x="3348000" y="2997360"/>
            <a:chExt cx="4923000" cy="7920"/>
          </a:xfrm>
        </p:grpSpPr>
        <p:sp>
          <p:nvSpPr>
            <p:cNvPr id="88" name=""/>
            <p:cNvSpPr/>
            <p:nvPr/>
          </p:nvSpPr>
          <p:spPr>
            <a:xfrm>
              <a:off x="3348000" y="3005280"/>
              <a:ext cx="49230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48000" y="2997360"/>
              <a:ext cx="492300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43280" y="2069640"/>
            <a:ext cx="59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80964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cc3300"/>
                </a:solidFill>
                <a:latin typeface="Arial"/>
              </a:rPr>
              <a:t>Новая методика перехода </a:t>
            </a:r>
            <a:br>
              <a:rPr sz="2700"/>
            </a:br>
            <a:r>
              <a:rPr b="0" lang="en-US" sz="2700" spc="-1" strike="noStrike">
                <a:solidFill>
                  <a:srgbClr val="cc3300"/>
                </a:solidFill>
                <a:latin typeface="Arial"/>
              </a:rPr>
              <a:t>на «1С:Бухгалтерию 8»: </a:t>
            </a:r>
            <a:br>
              <a:rPr sz="2700"/>
            </a:br>
            <a:r>
              <a:rPr b="0" lang="en-US" sz="2700" spc="-1" strike="noStrike">
                <a:solidFill>
                  <a:srgbClr val="cc3300"/>
                </a:solidFill>
                <a:latin typeface="Arial"/>
              </a:rPr>
              <a:t>перенос оборотов и документов, использование привычного интерфейса </a:t>
            </a:r>
            <a:br>
              <a:rPr sz="2700"/>
            </a:br>
            <a:r>
              <a:rPr b="0" lang="en-US" sz="2700" spc="-1" strike="noStrike">
                <a:solidFill>
                  <a:srgbClr val="cc3300"/>
                </a:solidFill>
                <a:latin typeface="Arial"/>
              </a:rPr>
              <a:t>«1С:Бухгалтерии 7.7»</a:t>
            </a:r>
            <a:br>
              <a:rPr sz="4800"/>
            </a:br>
            <a:endParaRPr b="1" lang="en-US" sz="27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Выгрузка в «1С:Бухгалтерии 7.7»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Обработка перехода в «1С:Бухгалтерии 7.7»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Начиная с релиза 7.70.546 «1С:Бухгалтерии 7.7» Помощник перехода </a:t>
            </a:r>
            <a:br>
              <a:rPr sz="2000"/>
            </a:b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на «1С:Бухгалтерию 8» выгружает данные в формате редакции 3.0 </a:t>
            </a:r>
            <a:br>
              <a:rPr sz="2000"/>
            </a:b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«1С:Бухгалтерии 8». </a:t>
            </a:r>
            <a:br>
              <a:rPr sz="2000"/>
            </a:b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45306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Перенос данных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Перенос данных осуществляется привычным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образом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если используется подключение к информационной базе, </a:t>
            </a:r>
            <a:br>
              <a:rPr sz="2000"/>
            </a:b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сначала будет произведена выгрузка данных;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затем производится загрузка данных, проведение документов, проверка загруженных данных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332000" y="1268280"/>
            <a:ext cx="537192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0917"/>
                </a:solidFill>
                <a:latin typeface="Arial"/>
              </a:rPr>
              <a:t>Новый интерфейс «1С:Бухгалтерии 8»</a:t>
            </a:r>
            <a:endParaRPr b="0" lang="en-US" sz="3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091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ользователь перешел на «1С:Бухгалтерию 8»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В «1С:Бухгалтерии 8» другие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документы и справочники,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методики ввода данных,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принципы организации интерфейса,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поведение программы при выполнении тех или иных действий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Как облегчить освоение «1С:Бухгалтерии 8» пользователями, которые перешли с «1С:Бухгалтерии 7.7»?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7456320" cy="3914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154240" y="2997360"/>
            <a:ext cx="698976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ользователь перешел на «1С:Бухгалтерию 8»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Решение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предоставить интерфейс, в котором можно</a:t>
            </a:r>
            <a:br>
              <a:rPr sz="2000"/>
            </a:b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ориентироваться, используя навыки, приобретенные </a:t>
            </a:r>
            <a:br>
              <a:rPr sz="2000"/>
            </a:b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при работе в «1С:Бухгалтерии 7.7»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826920" y="2997360"/>
            <a:ext cx="72914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Новый «старый» интерфейс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Методика построения интерфейса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главное меню </a:t>
            </a:r>
            <a:r>
              <a:rPr b="0" lang="en-US" sz="2000" spc="-1" strike="noStrike">
                <a:solidFill>
                  <a:srgbClr val="5b0917"/>
                </a:solidFill>
                <a:latin typeface="Arial"/>
                <a:ea typeface="Arial"/>
              </a:rPr>
              <a:t>−</a:t>
            </a: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 разделы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55640" y="2492280"/>
            <a:ext cx="7591320" cy="29908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35280" y="2852640"/>
            <a:ext cx="649080" cy="64764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19280" y="3860640"/>
            <a:ext cx="720720" cy="28908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27280" y="2852640"/>
            <a:ext cx="865080" cy="64764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40000" y="3860640"/>
            <a:ext cx="792000" cy="28908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35280" y="2852640"/>
            <a:ext cx="649440" cy="64764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3860640"/>
            <a:ext cx="720720" cy="28908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00720" y="2852640"/>
            <a:ext cx="649080" cy="64764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98720" y="3860640"/>
            <a:ext cx="720720" cy="28908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35640" y="2852640"/>
            <a:ext cx="649080" cy="64764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46720" y="3860640"/>
            <a:ext cx="720720" cy="28908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00720" y="2852640"/>
            <a:ext cx="720720" cy="79236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3860640"/>
            <a:ext cx="935280" cy="28908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64360" y="2852640"/>
            <a:ext cx="720720" cy="64764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3860640"/>
            <a:ext cx="647640" cy="28908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2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3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6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8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Новый «старый» интерфейс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Методика построения интерфейса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выпадающие списки меню – панель навигации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042920" y="2205000"/>
            <a:ext cx="614376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Особенности «старого» интерфейса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Интерфейс максимально повторяет интерфейс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«1С:Бухгалтерии 7.7»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При выборе той или иной команды мы получим поведение «1С:Бухгалтерии 8», максимально соответствующие поведению «1С:Бухгалтерии 7.7»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Например: 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0917"/>
                </a:solidFill>
                <a:latin typeface="Arial"/>
              </a:rPr>
              <a:t>при выборе команды «Справочники – Материалы» будет открыт список справочника «Номенклатура»,</a:t>
            </a: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0917"/>
                </a:solidFill>
                <a:latin typeface="Arial"/>
              </a:rPr>
              <a:t>при выборе команды «Документы – Выписка – Приход» будет создан документ «Поступление на расчетный счет».</a:t>
            </a: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Особенности «старого» интерфейса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0917"/>
                </a:solidFill>
                <a:latin typeface="Arial"/>
              </a:rPr>
              <a:t>Если в «1С:Бухгалтерии 7.7» какое-либо действие </a:t>
            </a:r>
            <a:br>
              <a:rPr sz="1800"/>
            </a:br>
            <a:r>
              <a:rPr b="0" lang="ru-RU" sz="1800" spc="-1" strike="noStrike">
                <a:solidFill>
                  <a:srgbClr val="5b0917"/>
                </a:solidFill>
                <a:latin typeface="Arial"/>
              </a:rPr>
              <a:t>осуществлялось одним документом, а в «1С:Бухгалтерии 8» несколькими, </a:t>
            </a:r>
            <a:br>
              <a:rPr sz="1800"/>
            </a:br>
            <a:r>
              <a:rPr b="0" lang="ru-RU" sz="1800" spc="-1" strike="noStrike">
                <a:solidFill>
                  <a:srgbClr val="5b0917"/>
                </a:solidFill>
                <a:latin typeface="Arial"/>
              </a:rPr>
              <a:t>в интерфейсе такие документы объединены в группу с именем команды, соответствующим «1С:Бухгалтерии 7.7». </a:t>
            </a: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0917"/>
                </a:solidFill>
                <a:latin typeface="Arial"/>
              </a:rPr>
              <a:t>Если в «1С:Бухгалтерии 7.7» какое-либо действие осуществлялось несколькими документами, а в «1С:Бухгалтерии 8» одним, при создании документа автоматически устанавливается вид операции и активизируется соответствующая закладка (при необходимости).</a:t>
            </a: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911320" y="2568600"/>
            <a:ext cx="1810080" cy="1266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5072040" y="2492280"/>
            <a:ext cx="2524320" cy="13716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324000" y="5013360"/>
            <a:ext cx="634032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Польза «старого» интерфейса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Интерфейс как в «1С:Бухгалтерии 7.7»</a:t>
            </a:r>
            <a:br>
              <a:rPr sz="2200"/>
            </a:b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позволяет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0917"/>
                </a:solidFill>
                <a:latin typeface="Arial"/>
              </a:rPr>
              <a:t>не заблудиться в новой программе: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0917"/>
                </a:solidFill>
                <a:latin typeface="Arial"/>
              </a:rPr>
              <a:t>все привычные команды на привычных местах.</a:t>
            </a: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0917"/>
                </a:solidFill>
                <a:latin typeface="Arial"/>
              </a:rPr>
              <a:t>привыкнуть к особенностям ввода данных в программе: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0917"/>
                </a:solidFill>
                <a:latin typeface="Arial"/>
              </a:rPr>
              <a:t>несмотря на знакомые команды, работа осуществляется </a:t>
            </a:r>
            <a:br>
              <a:rPr sz="1800"/>
            </a:br>
            <a:r>
              <a:rPr b="0" lang="ru-RU" sz="1800" spc="-1" strike="noStrike">
                <a:solidFill>
                  <a:srgbClr val="5b0917"/>
                </a:solidFill>
                <a:latin typeface="Arial"/>
              </a:rPr>
              <a:t>с документами и справочниками «1С:Бухгалтерии 8», поведение которых не изменялось. Это помогает привыкнуть к новым названиям и поведению программы.</a:t>
            </a: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0917"/>
                </a:solidFill>
                <a:latin typeface="Arial"/>
              </a:rPr>
              <a:t>Переход из «1С:Бухгалтерии 7.7»</a:t>
            </a:r>
            <a:endParaRPr b="0" lang="en-US" sz="3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Новая методика перехода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на «1С:Бухгалтерию 8»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перенос оборотов и документов, использование привычного интерфейса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«1С:Бухгалтерии 7.7»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4581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41c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Помощник перехода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Перенос данных из «1С:Бухгалтерии 7.7»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осуществляется при помощи обработки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 «Перенос данных из 1С:Предприятия 7.7»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95280" y="2532240"/>
            <a:ext cx="6075360" cy="3587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908000" y="3860640"/>
            <a:ext cx="6010560" cy="2914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411280" y="1989000"/>
            <a:ext cx="483876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Помощник перехода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917"/>
                </a:solidFill>
                <a:latin typeface="Arial"/>
              </a:rPr>
              <a:t>Поддерживаются следующие варианты </a:t>
            </a:r>
            <a:br>
              <a:rPr sz="2400"/>
            </a:br>
            <a:r>
              <a:rPr b="0" lang="ru-RU" sz="2400" spc="-1" strike="noStrike">
                <a:solidFill>
                  <a:srgbClr val="5b0917"/>
                </a:solidFill>
                <a:latin typeface="Arial"/>
              </a:rPr>
              <a:t>переноса данных:</a:t>
            </a:r>
            <a:endParaRPr b="0" lang="en-US" sz="24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0917"/>
                </a:solidFill>
                <a:latin typeface="Arial"/>
              </a:rPr>
              <a:t>перенос данных через непосредственное подключение </a:t>
            </a:r>
            <a:br>
              <a:rPr sz="2000"/>
            </a:br>
            <a:r>
              <a:rPr b="0" lang="ru-RU" sz="2000" spc="-1" strike="noStrike">
                <a:solidFill>
                  <a:srgbClr val="5b0917"/>
                </a:solidFill>
                <a:latin typeface="Arial"/>
              </a:rPr>
              <a:t>к информационной базе «1С:Бухгалтерии 7.7»;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0917"/>
                </a:solidFill>
                <a:latin typeface="Arial"/>
              </a:rPr>
              <a:t>перенос данных через файл, ранее подготовленный </a:t>
            </a:r>
            <a:br>
              <a:rPr sz="2000"/>
            </a:br>
            <a:r>
              <a:rPr b="0" lang="ru-RU" sz="2000" spc="-1" strike="noStrike">
                <a:solidFill>
                  <a:srgbClr val="5b0917"/>
                </a:solidFill>
                <a:latin typeface="Arial"/>
              </a:rPr>
              <a:t>в «1С:Бухгалтерии 7.7» при помощи обработки выгрузки данных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268360" y="2060640"/>
            <a:ext cx="4838760" cy="4457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268360" y="1989000"/>
            <a:ext cx="483876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Загрузка данных из файла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Для загрузки данных следует указать </a:t>
            </a:r>
            <a:br>
              <a:rPr sz="2200"/>
            </a:b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файл с данными, который был сформирован</a:t>
            </a:r>
            <a:br>
              <a:rPr sz="2200"/>
            </a:b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в «1С:Бухгалтерии 7.7»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0917"/>
                </a:solidFill>
                <a:latin typeface="Arial"/>
              </a:rPr>
              <a:t>все остальные действия по загрузке данных будут осуществлены автоматически. 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908000" y="3357720"/>
            <a:ext cx="44913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Подключение к базе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В диалоге переноса данных </a:t>
            </a:r>
            <a:br>
              <a:rPr sz="2200"/>
            </a:b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из информационной базы следует указать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0917"/>
                </a:solidFill>
                <a:latin typeface="Arial"/>
              </a:rPr>
              <a:t>из какой базы переносить данные,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0917"/>
                </a:solidFill>
                <a:latin typeface="Arial"/>
              </a:rPr>
              <a:t>период переноса данных (год),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0917"/>
                </a:solidFill>
                <a:latin typeface="Arial"/>
              </a:rPr>
              <a:t>какие данные требуется перенести: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0917"/>
                </a:solidFill>
                <a:latin typeface="Arial"/>
              </a:rPr>
              <a:t>справочники,</a:t>
            </a: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0917"/>
                </a:solidFill>
                <a:latin typeface="Arial"/>
              </a:rPr>
              <a:t>остатки,</a:t>
            </a: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0917"/>
                </a:solidFill>
                <a:latin typeface="Arial"/>
              </a:rPr>
              <a:t>обороты,</a:t>
            </a: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0917"/>
                </a:solidFill>
                <a:latin typeface="Arial"/>
              </a:rPr>
              <a:t>документы,</a:t>
            </a: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0917"/>
                </a:solidFill>
                <a:latin typeface="Arial"/>
              </a:rPr>
              <a:t>все остальные действия по загрузке данных будут осуществлены автоматически. 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476360" y="1484280"/>
            <a:ext cx="537228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Особенности перехода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При переходе с «1С:Бухгалтерии 7.7» можно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перенести справочники, остатки, обороты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и документы за выбранный период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Варианты переноса можно выбирать в любой комбинации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Выгрузки документов и оборотов являются взаимодополняющими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обороты (сводные проводки по счетам) выгружаются за закрытый период (за который сдана отчетность);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документы выгружаются за текущий период: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0917"/>
                </a:solidFill>
                <a:latin typeface="Arial"/>
              </a:rPr>
              <a:t>реализовано графическое представление периода выгрузки оборотов и документов.</a:t>
            </a: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4106880" cy="2900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274920" y="2813040"/>
            <a:ext cx="3760920" cy="3354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619280" y="1413000"/>
            <a:ext cx="537192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835280" y="1197000"/>
            <a:ext cx="5371920" cy="47908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Особенности перехода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5608800"/>
            <a:ext cx="1292040" cy="969840"/>
          </a:xfrm>
          <a:prstGeom prst="borderCallout1">
            <a:avLst>
              <a:gd name="adj1" fmla="val 18750"/>
              <a:gd name="adj2" fmla="val -8333"/>
              <a:gd name="adj3" fmla="val -981"/>
              <a:gd name="adj4" fmla="val 216217"/>
            </a:avLst>
          </a:prstGeom>
          <a:solidFill>
            <a:srgbClr val="f9e383">
              <a:alpha val="50000"/>
            </a:srgbClr>
          </a:solidFill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ериод выгрузки оборо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96360" y="4221000"/>
            <a:ext cx="1296720" cy="863640"/>
          </a:xfrm>
          <a:prstGeom prst="borderCallout1">
            <a:avLst>
              <a:gd name="adj1" fmla="val 18750"/>
              <a:gd name="adj2" fmla="val -8333"/>
              <a:gd name="adj3" fmla="val 124449"/>
              <a:gd name="adj4" fmla="val -217134"/>
            </a:avLst>
          </a:prstGeom>
          <a:solidFill>
            <a:srgbClr val="f9e383">
              <a:alpha val="50000"/>
            </a:srgbClr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ериод выгрузки докум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00720" y="5300640"/>
            <a:ext cx="502920" cy="0"/>
          </a:xfrm>
          <a:prstGeom prst="line">
            <a:avLst/>
          </a:prstGeom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56000" y="5589720"/>
            <a:ext cx="1944720" cy="0"/>
          </a:xfrm>
          <a:prstGeom prst="line">
            <a:avLst/>
          </a:prstGeom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48360" y="3573360"/>
            <a:ext cx="1584360" cy="28728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403280" y="1773360"/>
            <a:ext cx="61340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Помощник перехода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Правила переноса хранятся в самой обработке </a:t>
            </a:r>
            <a:br>
              <a:rPr sz="2200"/>
            </a:b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перехода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195640" y="2421000"/>
            <a:ext cx="38764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4:23:20Z</dcterms:created>
  <dc:creator>Admin</dc:creator>
  <dc:description/>
  <dc:language>en-US</dc:language>
  <cp:lastModifiedBy>user</cp:lastModifiedBy>
  <dcterms:modified xsi:type="dcterms:W3CDTF">2013-07-25T13:55:59Z</dcterms:modified>
  <cp:revision>78</cp:revision>
  <dc:subject/>
  <dc:title>Слайд 1</dc:title>
</cp:coreProperties>
</file>