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42.png" ContentType="image/png"/>
  <Override PartName="/ppt/media/image13.png" ContentType="image/pn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9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comments/comment3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ondratieva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34.xml><?xml version="1.0" encoding="utf-8"?>
<p:cmLst xmlns:p="http://schemas.openxmlformats.org/presentationml/2006/main">
  <p:cm authorId="0" dt="2012-09-24T16:16:07.558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9C23-BA5D-4A3D-A47D-1226FF1000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D19-F24F-4E90-87C7-B34CB4FB95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84C-9522-4F23-BA21-04F996004D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DA39-F687-4F97-8465-FFD59481C4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27F6-74DB-47B2-9771-CF54316A96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AAE5-FAB1-4E95-A526-58AD782080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0703-991F-4798-B1F6-19E4470635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97B-4F9A-4B12-A005-7ED3EF038B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A2EC-AE92-4EFE-84EF-840DCCD012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1A05-FD07-4797-B3F2-308ECE046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2991-9327-4FF5-8090-F51BCF2DB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F296-FE06-4EB4-B757-8215155AD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5FD7-5854-4028-85AF-42D7F3F50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D513-9F74-439E-91C9-2C37841F9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B5F5-6DD1-4DED-AF44-1C016AF1B0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EDB6-EEC6-4F37-AA23-9E1687650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9A69-EAF0-45E6-9D3A-E05D8043D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399040"/>
            <a:ext cx="7667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041D-DEF7-4A1B-9349-986B08929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BDB2-6AFE-4060-A1AF-FC4C25B2C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B497-34C8-4BA6-B09E-F8EF77ED1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5CF9-8EF8-4432-8AD8-0D8DD311B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58920" y="115920"/>
            <a:ext cx="0" cy="865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58920" y="117360"/>
            <a:ext cx="0" cy="865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809640" cy="371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3" marL="1600200" indent="-228600">
              <a:spcBef>
                <a:spcPts val="1375"/>
              </a:spcBef>
              <a:buClr>
                <a:srgbClr val="cc0000"/>
              </a:buClr>
              <a:buFont typeface="Times New Roman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4" marL="2057400" indent="-228600">
              <a:spcBef>
                <a:spcPts val="1375"/>
              </a:spcBef>
              <a:buClr>
                <a:srgbClr val="cc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5" marL="2057400" indent="-228600">
              <a:spcBef>
                <a:spcPts val="1375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6" marL="2057400" indent="-228600">
              <a:spcBef>
                <a:spcPts val="1375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09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 «1С:Бухгалтерия 8», редакция 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44000" y="6597360"/>
            <a:ext cx="7668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b091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39DF-F479-485E-82BA-BFCC87289A95}" type="slidenum">
              <a:rPr b="1" lang="en-US" sz="1400" spc="-1" strike="noStrike">
                <a:solidFill>
                  <a:srgbClr val="5b091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220920" y="5084640"/>
            <a:ext cx="5743800" cy="7920"/>
            <a:chOff x="3220920" y="5084640"/>
            <a:chExt cx="5743800" cy="7920"/>
          </a:xfrm>
        </p:grpSpPr>
        <p:sp>
          <p:nvSpPr>
            <p:cNvPr id="44" name=""/>
            <p:cNvSpPr/>
            <p:nvPr/>
          </p:nvSpPr>
          <p:spPr>
            <a:xfrm>
              <a:off x="3220920" y="5092560"/>
              <a:ext cx="5743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20920" y="5084640"/>
              <a:ext cx="57438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8000" y="177840"/>
            <a:ext cx="809640" cy="37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1640" y="115920"/>
            <a:ext cx="0" cy="8650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1412640"/>
            <a:ext cx="7667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91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Times New Roman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091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b0917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0000"/>
              </a:buClr>
              <a:buFont typeface="Arial"/>
              <a:buChar char="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348000" y="2997360"/>
            <a:ext cx="4923000" cy="7920"/>
            <a:chOff x="3348000" y="2997360"/>
            <a:chExt cx="4923000" cy="7920"/>
          </a:xfrm>
        </p:grpSpPr>
        <p:sp>
          <p:nvSpPr>
            <p:cNvPr id="87" name=""/>
            <p:cNvSpPr/>
            <p:nvPr/>
          </p:nvSpPr>
          <p:spPr>
            <a:xfrm>
              <a:off x="3348000" y="3005280"/>
              <a:ext cx="4923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2997360"/>
              <a:ext cx="49230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3280" y="206964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80964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267920"/>
            <a:ext cx="7667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Редакция 3.0: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новые возможности «1С:Бухгалтерии 8»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ерсональный рабочий стол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92720" y="1844640"/>
            <a:ext cx="1942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Так можно настроить рабочий стол бухгалтера, ответственного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за работу с банком: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журнал выписок,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журнал платежек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Прямо здесь можно: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оздать новую платежку (панель «Создать»)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выгрузить ее в банк («Обмен с клиентом банка»)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Так просто еще никогда не было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2360" y="1779480"/>
            <a:ext cx="6696000" cy="481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9CCA-3EAB-45FB-8EEC-1E2891F15F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Формы документов и справочников редакций 3.0 и 2.0 похожи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Нет цели шокировать или удивить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4920" y="1839960"/>
            <a:ext cx="4392720" cy="2741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465800" y="2921040"/>
            <a:ext cx="4643280" cy="3244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03280" y="465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д.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623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д.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E3C5-55EE-410E-B46D-EF856AAF74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ример использования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маленькая организация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УСН 6 %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1 пользователь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только оказание услуг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471636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1F84-DCCA-41A8-8D54-5E68DA5138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32720" y="1989000"/>
            <a:ext cx="2232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Документ «Реализация товаров и услуг»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Так форма документа выглядит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по умолчанию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делано на все случаи жизни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" y="1619280"/>
            <a:ext cx="6732720" cy="41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255D-B4C4-487E-8C6C-CCDB62ED3E3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48360" y="1944360"/>
            <a:ext cx="2089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Та же самая реализация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Настроенная лично для вас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Ничего лишнего, все работает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Теперь так будет всегда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8000" y="1700280"/>
            <a:ext cx="6553080" cy="436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2FB0-B6DD-4B0B-A104-4792BB0EDE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48000" y="1844280"/>
            <a:ext cx="2087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Что мы настроили?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Убрали лишнее: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- все по НДС,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- поля «Организация», «Склад», «Подразделение» 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и др.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счета учета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- лишние вкладки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- вынесли кнопку печати Акта прямо 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на форму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Сосредоточьтесь </a:t>
            </a:r>
            <a:br>
              <a:rPr sz="1400"/>
            </a:br>
            <a:r>
              <a:rPr b="0" lang="ru-RU" sz="1400" spc="-1" strike="noStrike">
                <a:solidFill>
                  <a:srgbClr val="5b0917"/>
                </a:solidFill>
                <a:latin typeface="Arial"/>
              </a:rPr>
              <a:t>на главном!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8000" y="1700280"/>
            <a:ext cx="6553080" cy="436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2497-1D71-4EC3-96ED-221319CB72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делайте формы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добными лично ва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За 5 минут. 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е выходя из программы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Конфигурирование не требуется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стройки сохраняются автоматически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240000" cy="2085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50920" y="1817640"/>
            <a:ext cx="4392360" cy="2687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72000" y="2924280"/>
            <a:ext cx="720720" cy="431640"/>
          </a:xfrm>
          <a:prstGeom prst="rightArrow">
            <a:avLst>
              <a:gd name="adj1" fmla="val 50000"/>
              <a:gd name="adj2" fmla="val 417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A413-9CBB-4F42-A824-54044B58B80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Управление настройками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ализованное управление настройками внешнего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а форм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скопировать настройки формы любому пользователю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удалять настройки внешнего вида.</a:t>
            </a:r>
            <a:endParaRPr b="0" lang="en-US" sz="18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73160" y="3151080"/>
            <a:ext cx="46864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1249-F713-4B24-89FB-498A3A8DB8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Контроль ошибок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рограмма показывает, в каком именно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еквизите допущена ошибка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78296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AB8B-B13E-449F-9F8B-56929605D6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стория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стория позволяет перейти к любому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окументу, с которым работали недавно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52760" y="2155680"/>
            <a:ext cx="5619600" cy="4152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08000" y="6021360"/>
            <a:ext cx="8856720" cy="754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826920" y="3645000"/>
            <a:ext cx="1800360" cy="30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80EB-9668-488D-8344-6421768D137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Основные направления развития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овая редакция 3.0 типовой конфигурации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«Бухгалтерия предприятия»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спользование возможностей платформы 8.2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работа в режиме управляемого приложения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еренос основной «вычислительной» нагрузки на сервер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овые возможности управления интерфейсом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оддержка тонкого и веб-клиента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возможность работы в режиме сервиса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814840" cy="28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44B9-A05D-44BE-973B-CEB3382BAD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збранно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 «Избранное» можно добавить конкретны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окументы, отчеты и многое друго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ля быстрого доступа из любой точки программы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455840" y="2565360"/>
            <a:ext cx="5533920" cy="1438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165400" y="4221000"/>
            <a:ext cx="643896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5578-EC4B-4675-AB8B-AC327650C54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сылки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 любой документ можно получить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специальную ссылку, по которой его затем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можно сразу открыть, минуя поиск в журнале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ту ссылку можно передать другому пользователю базы, чтобы он не тратил время на поиск нужного документа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8000" y="2352600"/>
            <a:ext cx="6675480" cy="228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619280" y="4292640"/>
            <a:ext cx="740556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E9A1-0CD8-47D9-9A17-53A976E428BB}" type="slidenum">
              <a:t>2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астройка списков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ывод произвольных реквизитов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Управление внешним видом списка (список, дерево)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озможности группировк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Расширенные возможности сортировок и отборов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Условное оформление списков в зависимости от тех данных, которые в нем отображаются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6823080" cy="4678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26920" y="1773360"/>
            <a:ext cx="6823080" cy="467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826920" y="1773360"/>
            <a:ext cx="6823080" cy="4678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26920" y="1773360"/>
            <a:ext cx="6823080" cy="46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7501-7584-4528-BB10-4137313BFE68}" type="slidenum">
              <a:t>2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ыполнение длительных операций в фон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абота пользователя не блокируется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пример, можно запустить закрытие месяца и вводить платежки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ыполняющиеся длительные операции можно прервать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е дожидаясь их выполнения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апример, запустили формирование отчета с ошибочными настройками: можно изменить настройки и переформировать отчет, не дожидаясь завершения выполнения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219640" y="4043520"/>
            <a:ext cx="3924360" cy="25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CAE3-4508-4585-A8DB-E193F80F3A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ример фонового заполнения документ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0360" y="1773360"/>
            <a:ext cx="8802720" cy="47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BE99-5292-49F6-B597-BB047B5F2FC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ример фонового формирования отчета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A5DD-47C3-45EF-8638-94323A570D6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Только просмотр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обавлена возможность доступа к ИБ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с правами только на просмотр данных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6546960" cy="45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35B8-49F2-4966-9CB5-24BA46C75D6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ллюстрированное описани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6391440" cy="503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59280" y="3068640"/>
            <a:ext cx="3528720" cy="18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987640" y="2035080"/>
            <a:ext cx="615636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16EC-D36D-4C1F-928D-6F396DAFAC41}" type="slidenum">
              <a:t>27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ллюстрированное описание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6702480" cy="505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06C9-36F7-4228-952F-F935A6E08DF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лезная информация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0917"/>
                </a:solidFill>
                <a:latin typeface="Arial"/>
              </a:rPr>
              <a:t>Полезная информация </a:t>
            </a: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–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новый инструмент методической поддержк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Назначение: 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упрощение начального освоения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быстрый доступ к актуальным материалам на сайте ИТС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Теперь не только статьи, но и </a:t>
            </a:r>
            <a:r>
              <a:rPr b="1" lang="ru-RU" sz="2200" spc="-1" strike="noStrike">
                <a:solidFill>
                  <a:srgbClr val="5b0917"/>
                </a:solidFill>
                <a:latin typeface="Arial"/>
              </a:rPr>
              <a:t>видеоролики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0917"/>
                </a:solidFill>
                <a:latin typeface="Arial"/>
              </a:rPr>
              <a:t>коротко о главном – «наблюдение из-за спины»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867280" y="4334040"/>
            <a:ext cx="3313080" cy="22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D82F-1C0E-472E-BFBB-383BBDC456E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Зачем нужна редакция 3.0?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92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Мы разработали единую конфигурацию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для работы через Интернет и локально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Работа через Интернет может получить распространение </a:t>
            </a:r>
            <a:br>
              <a:rPr sz="2200"/>
            </a:b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в ближайшее время</a:t>
            </a: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0917"/>
                </a:solidFill>
                <a:latin typeface="Arial"/>
              </a:rPr>
              <a:t>Мы готовы предоставить нашим пользователям </a:t>
            </a:r>
            <a:br>
              <a:rPr sz="2200"/>
            </a:br>
            <a:r>
              <a:rPr b="1" lang="ru-RU" sz="2200" spc="-1" strike="noStrike">
                <a:solidFill>
                  <a:srgbClr val="5b0917"/>
                </a:solidFill>
                <a:latin typeface="Arial"/>
              </a:rPr>
              <a:t>лучший сервис в любом случае</a:t>
            </a:r>
            <a:r>
              <a:rPr b="1" lang="en-US" sz="2200" spc="-1" strike="noStrike">
                <a:solidFill>
                  <a:srgbClr val="5b091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378000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9ADC-3BDE-4C27-B515-F2BC5A26703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олезная информация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3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7322-4ABD-41DD-A5C6-B4444D7A7A8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идеоролики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1280" y="1336680"/>
            <a:ext cx="6877080" cy="51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4BC2-5AA3-4EB5-967D-2170C43B5D8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Анализ вопросов пользователей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чиная с мая 2012 г. проводится регулярный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мониторинг вопросов на линию консультаций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2563920"/>
            <a:ext cx="777060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354E-6C36-4D35-9223-6DBA82962E0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Анализ вопросов пользователей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Анализ проводится по итогам каждой недели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84600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4724-93DC-48E3-BB5E-FAE615C4C6C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Анализ вопросов пользователей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7931160" cy="51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BCB2-DF49-44C8-8143-E6D32A86ABA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изиты к пользователя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блюдение за работой пользователя на его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абочем месте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ыявление конкретных проблем в работе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онимание целей и задач пользователя, контекста его работы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500720" y="3573360"/>
            <a:ext cx="4356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15FA-9581-4739-9E95-E54A1466F7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Выявление проблем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пример, по результатам проведенного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анализа подсистемы НДС выявлено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более 80-ти различных проблем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 неудобств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алее замечания ранжируются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о приоритетам и определяются сроки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х устранения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 первую очередь обращаем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нимание на замечания по наиболе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частотным операциям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808600" y="2133720"/>
            <a:ext cx="3335400" cy="44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12EA-C454-4566-813C-C94DFD90187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вышение удобства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0917"/>
                </a:solidFill>
                <a:latin typeface="Arial"/>
              </a:rPr>
              <a:t>Программа </a:t>
            </a:r>
            <a:r>
              <a:rPr b="1" lang="en-US" sz="3000" spc="-1" strike="noStrike">
                <a:solidFill>
                  <a:srgbClr val="5b0917"/>
                </a:solidFill>
                <a:latin typeface="Arial"/>
              </a:rPr>
              <a:t>не для компьютера</a:t>
            </a:r>
            <a:r>
              <a:rPr b="0" lang="en-US" sz="3000" spc="-1" strike="noStrike">
                <a:solidFill>
                  <a:srgbClr val="5b0917"/>
                </a:solidFill>
                <a:latin typeface="Arial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5b0917"/>
                </a:solidFill>
                <a:latin typeface="Arial"/>
              </a:rPr>
              <a:t>программа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для бухгалтера.</a:t>
            </a:r>
            <a:endParaRPr b="0" lang="en-US" sz="30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40072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00C7-B3E7-4105-AC6E-1DB2808DD12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ереход и поддержка 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предыдущих версий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оддержку предыдущей редакции 2.0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ланируется завершить в 2013 году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отражение изменений законодательства – до конца 2013 года,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поддержка сдачи годовой отчетности за 2013 год –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до конца марта 2014 года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ход с редакции 2.0 на редакцию 3.0 с сохранением данных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без дополнительной оплаты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ереход с «1С:Бухгалтерии 7.7» упрощен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b0917"/>
                </a:solidFill>
                <a:latin typeface="Arial"/>
              </a:rPr>
              <a:t>Можно перейти сразу на «1С:Бухгалтерию» в Интернете!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ужно обратиться к своей обслуживающей организации </a:t>
            </a:r>
            <a:br>
              <a:rPr sz="2000"/>
            </a:b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(партнеру фирмы «1С»)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1588-03BE-4B95-9801-D134AE54FE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981000"/>
            <a:ext cx="766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Редакция 3.0: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новые возможности «1С:Бухгалтерии 8»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5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41c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«1С:Бухгалтерия» через Интернет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380360" cy="5419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1197000"/>
            <a:ext cx="2592360" cy="720720"/>
          </a:xfrm>
          <a:prstGeom prst="wedgeEllipseCallout">
            <a:avLst>
              <a:gd name="adj1" fmla="val 30833"/>
              <a:gd name="adj2" fmla="val 282819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Информационная база в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облак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84FA-0EFD-46C6-AA95-8700BAACDD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«1С:Бухгалтерия» через Интернет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8066160" cy="5162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3357720"/>
            <a:ext cx="2592360" cy="720720"/>
          </a:xfrm>
          <a:prstGeom prst="wedgeEllipseCallout">
            <a:avLst>
              <a:gd name="adj1" fmla="val 171921"/>
              <a:gd name="adj2" fmla="val 236125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Информационная база в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офи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E521-78F4-416F-8DF1-11C95C8EAC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Зачем нужна редакция 3.0?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«1С:Бухгалтерия 8» в редакции 3.0 предоставила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больше возможностей для удобной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и эффективной работы без доработки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конфигураци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Теперь партнеры «1С» смогут лучш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позаботиться о наших пользователях,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сделать больше полезного,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е отвлекаться на мелкие задачи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402240" y="2565360"/>
            <a:ext cx="2741760" cy="40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75BA-A906-4B90-865A-BE4FBC05D2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охранение преемственности 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с редакцией 2.0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овая редакция разработана на основе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конфигурации «Бухгалтерия предприятия»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едакции 2.0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Обеспечивается сохранение методологии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едения бухгалтерского и налогового учета редакции 2.0: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917"/>
                </a:solidFill>
                <a:latin typeface="Arial"/>
              </a:rPr>
              <a:t>новая подсистема учета зарплаты.</a:t>
            </a:r>
            <a:endParaRPr b="0" lang="en-US" sz="20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Накопленные в редакции 2.0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данные при переходе на новую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редакцию сохраняются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се изменения законодательства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одновременно реализуются </a:t>
            </a:r>
            <a:br>
              <a:rPr sz="2200"/>
            </a:br>
            <a:r>
              <a:rPr b="0" lang="en-US" sz="2200" spc="-1" strike="noStrike">
                <a:solidFill>
                  <a:srgbClr val="5b0917"/>
                </a:solidFill>
                <a:latin typeface="Arial"/>
              </a:rPr>
              <a:t>в обеих редакциях.</a:t>
            </a:r>
            <a:endParaRPr b="0" lang="en-US" sz="22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378000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D66C-9834-4B56-9C6E-BA34EE4508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астраивается все!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8720" y="1844280"/>
            <a:ext cx="172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Все можно изменить так, как вам будет удобно: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остав вкладок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остав ссылок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в панели навигации,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- состав пунктов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в панели действий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6985080" cy="502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22AA-5B38-4A0E-9D7A-C009BE6E17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561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Настраивается все!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08720" y="1844280"/>
            <a:ext cx="172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Просто перетащите нужные команды </a:t>
            </a:r>
            <a:r>
              <a:rPr b="1" lang="en-US" sz="1400" spc="-1" strike="noStrike">
                <a:solidFill>
                  <a:srgbClr val="5b0917"/>
                </a:solidFill>
                <a:latin typeface="Arial"/>
              </a:rPr>
              <a:t>направо</a:t>
            </a: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5b0917"/>
                </a:solidFill>
                <a:latin typeface="Arial"/>
              </a:rPr>
              <a:t>а ненужные переместите </a:t>
            </a:r>
            <a:r>
              <a:rPr b="1" lang="en-US" sz="1400" spc="-1" strike="noStrike">
                <a:solidFill>
                  <a:srgbClr val="5b0917"/>
                </a:solidFill>
                <a:latin typeface="Arial"/>
              </a:rPr>
              <a:t>налево.</a:t>
            </a:r>
            <a:endParaRPr b="0" lang="en-US" sz="1400" spc="-1" strike="noStrike">
              <a:solidFill>
                <a:srgbClr val="5b0917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6842160" cy="46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7B15-A5C1-4406-B3EF-79FD465F4F3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4:23:20Z</dcterms:created>
  <dc:creator>Admin</dc:creator>
  <dc:description/>
  <dc:language>en-US</dc:language>
  <cp:lastModifiedBy>user</cp:lastModifiedBy>
  <dcterms:modified xsi:type="dcterms:W3CDTF">2013-07-25T13:56:51Z</dcterms:modified>
  <cp:revision>95</cp:revision>
  <dc:subject/>
  <dc:title>Слайд 1</dc:title>
</cp:coreProperties>
</file>