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AF74-17EC-48D3-94CB-FEF1A8F543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5431-5EEB-4DEA-8059-448DB9865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2076-E513-4BD8-A19D-05CD2ACB59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5DBB-199E-47A3-B35A-F542FBC29C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063C-90C3-4D71-9DFA-8F4462C0C0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3091-3633-4BF1-BC5D-4AE26EA1C1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870-0043-40EA-8BA0-A8B748BBD2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8314-4F28-4337-9C78-A9BCD29706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405-323C-49D8-8E09-6F66E75E9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9924-C547-4345-8426-7F4ACB4D0E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E3F-A8D8-4B9B-9CA5-293E82339B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C887-3E5A-4FFC-B22A-59C906980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E84-8FC8-4E8D-AD84-A20DDECE55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9A4-685E-484C-A4EE-61C3478E55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3F3-9EF4-4831-966B-3DD9F4EF7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4F5-3641-401F-ABCF-686EC46C3E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52B-9055-4391-923F-7C40AA5218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5C56-D982-427E-AFC3-F227691731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0EAF-792A-47D2-83A8-73A7D95AF6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1A8-AA20-423F-9CAF-F0E98D1468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4A83-55E8-4385-BFA8-3A4230BDE1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BBC-0058-4E54-BA97-46AAA7D643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9EE-BD57-48E6-B05B-5DD38962C4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20F2-5551-4C26-8AEE-74F1440421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C95-CE48-4FA5-A680-62115FE05F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0176-9F83-4AC8-9B2D-E397EC6AC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F86B-3F8E-4E2F-BA3B-292C7A490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F2C7-CFB2-40AB-8D79-403A1C82B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AB98-C918-4731-8F27-4EC166F7B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7E4E-B016-4CFE-8D98-4A7FD2038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4B21-8F64-4F40-89B6-DE52F338F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D077-F581-4ECC-B16D-65994273A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B17E-066D-474E-BE9B-3CE6053BB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18B4-C379-41F7-BCBE-42AF0BFEB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5A0C-3499-4EF3-A03A-0CBD25188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4387-A962-4415-9393-32BAD347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AC50-27B2-4B24-A6A3-0FC6AAE18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88BC-3707-40B7-9737-34C479E0AD9D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79280" y="177840"/>
            <a:ext cx="863640" cy="514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овые возможности и преимущества «1С:Зарплата и Управление Персоналом 8» по сравнению с «1С:Зарплата и Кадры 7.7»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вод индивидуальных графиков рабо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можно ввести индивидуальный график работы сотрудник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водится на очередной месяц: за каждый день или сводно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втоматически заполняется по основному графику и редактируется вручную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87280" y="3284640"/>
            <a:ext cx="7686720" cy="35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852640"/>
            <a:ext cx="3600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7240" indent="-23004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F647-0C40-4D8A-8174-B2922A544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ибкий (скользящий) график рабо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можно использовать графики работы «со скользящими выходными»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четание возможностей описания произвольных графиков работы и ежемесячно вводимых индивидуальных графиков позволяет вести учет времени сотрудников, работающих по графикам «со скользящими выходными»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20600" y="2494080"/>
            <a:ext cx="3514680" cy="424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348000" y="3174840"/>
            <a:ext cx="5559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E7BF-538C-4AC0-BE53-9FA89D096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окумент «Табель учета рабочего времени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документ должен заполняться ежемесячно, иначе зарплата работнику не может быть рассчитана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документ может вводиться по мере необходимости или ежемесячно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сли документ «Табель» отсутствует, отработанное время для расчета заработной платы определяется по основному или индивидуальному графику с учетом неяво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700360" y="3789360"/>
            <a:ext cx="568944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284640"/>
            <a:ext cx="8012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C03E-96E1-4557-A3EC-ECA90848C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чет «Табель учета рабочего времени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отчет может быть получен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после расчета зарплат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текущего месяца формируется в любой момен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ля расчета аванса по фактической выработке за первую половину месяца предусмотрена возможность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гистрации табеля за первую половину месяц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с учетом введенных на момент заполнения документа данных об отклонениях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можен ввод табеля за любой период в рамках расчетного месяца и получение печатной формы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 неоконченный месяц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условиях отсутствия данных о расчетах заработной платы используютс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анные кадрового учет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21E0-B096-49A9-8584-4CC697428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дельный наряд и фактически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работанное врем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30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документе «Сдельный наряд» существует возможность редактирования данных учета рабочего време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780000" y="1197000"/>
            <a:ext cx="519408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F2CD-368F-4094-8E73-9F6F1558CD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извольные формулы расчета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17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ля начисления можно указать произвольную формулу расчета с использованием до шести различных показателе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льзователи могут описать любое количество показателей расчет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211640" y="1052640"/>
            <a:ext cx="4865760" cy="55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BCC7-2E8F-4697-A8EB-FCD92094E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иод расчета зар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смена периода расчета зарплаты производится по строго определенному алгоритму действий после получения все выходные документ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тировка данных прошедших периодов таит в себе много подводных камне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сутствует жесткий регламент перехода как в последующий, так и в предыдущие расчетные период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необходимости защиты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анных от несанкционированных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зменений вводится дата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прета изменения данных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тировка данных прошедших периодов проста и прозрачн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308560" y="3789360"/>
            <a:ext cx="3727440" cy="16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758C-9B38-43A9-B834-8C9C382C17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анс за первую половину месяца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окумент «Начисление заработной платы работникам организации» рассчитывает сумму аванса за первую половину месяца по фактической выработк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56000" y="2133720"/>
            <a:ext cx="6335280" cy="4560480"/>
            <a:chOff x="2556000" y="2133720"/>
            <a:chExt cx="6335280" cy="4560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635200" y="2133720"/>
              <a:ext cx="6256080" cy="45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56000" y="2927880"/>
              <a:ext cx="2887200" cy="318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BD27-DD7C-43C5-B60F-3197DF490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налитическая отчетность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результатам расче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840" y="1052280"/>
            <a:ext cx="8929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е отчеты формируются не только за месяц, но и за любой период времен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овый отчет «Анализ начислений работникам» позволяет анализировать величину заработка, суммы начисленного ЕСН и начислений, учитываемых при формировании проводо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63640" y="2185920"/>
            <a:ext cx="705168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6474-324D-446E-B9B1-E8CF7BE9F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ойства и категории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еханизм свойств позволяет без конфигурирования произвольным образом расширять круг сведений о работниках, хранимых в И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еханизм категорий позволяет группировать и отбирать работников по произвольным критерия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900000" y="3429000"/>
            <a:ext cx="7345440" cy="33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897A-6A85-441B-A4F8-BA806883A4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равнительная характеристика функциональных возможностей конфигураций «Зарплата и Управление Персоналом» и «Зарплата и Кадры»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едение учета нескольких организаций в единой баз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дровый уче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чет использования рабочего времен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счет заработной плат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четность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ервисные механизм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2414-CB76-4EAD-874C-EF12700DC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дровая аналитическая отчетност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получение информации о сотрудниках возможно с помощью конструктора отчетов «Произвольные отчеты», что требует понимания основ программировани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«Списки работников организации» позволяет получать полную аналитическую информацию о работниках, учитываемых в информационной базе, в различных аналитических разрезах, дорабатывать существующие и, с помощью простой настройки, формировать новые отчет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7920000" cy="45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A6D7-C3EA-49B7-ABE8-C42F568E1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нализ начисленных налогов и взнос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специализированные средства анализа отсутствуют, некоторую информацию можно получить в расшифровках отчета «Расчет по ЕСН» либо с помощью дополнительных обработок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«Анализ начисленных налогов и взносов» позволяет анализировать начисления по всем налогам и в разрезе каждого налога за любой выбранный перио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54200" y="1333440"/>
            <a:ext cx="7705440" cy="534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BA60-F488-488F-AF4F-FD8AAEA72F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ая отчетность для ФСС РФ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: Предусмотрена возможность выгрузки данных в конфигурацию «1С:Бухгалтерия 7.7», в которой заполняется расчетные ведомости по средствам фонда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реализованы расчетные ведомости по средствам фонда социального страхования РФ – формы 4-ФСС и 4а-ФСС и их автоматическое заполнен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7772-9E77-402B-9049-F54CA85285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верка соотношений показателе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ля расчета по авансовым платежам по ЕСН и страховым взносам на обязательное пенсионное страхование реализован режим проверки соотношений показателе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720072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8704-85C0-4DA8-9807-5495E7198D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сонифицированный учет ПФР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ЗиК в целях создания архива переданных в ПФР сведений пользователь должен самостоятельно сохранять переданные в ПФР файлы на диск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ЗУП ведется архив переданных в ПФР сведений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799"/>
              </a:spcAft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сле передачи данных в ПФР в ИБ сохраняются переданные в ПРФ файлы: в любой момент, не выходя из программы, можно увидеть, какие именно данные передавались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799"/>
              </a:spcAft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нкетные данные и данные о стаже сотрудников при этом не используются и могут быть изменены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5280" y="3284640"/>
            <a:ext cx="8534520" cy="293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332000" y="3284640"/>
            <a:ext cx="6676920" cy="3409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981000"/>
            <a:ext cx="8254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FE16-9D08-43A6-A753-0F5644317F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льзователю предоставляется список его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текущих задач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и выявляются на основании анализа введенных данных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поминания о запланированных ранее кадровых перемещениях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поминания о днях рождения работников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и по перерасчету начислений или по доначисления зарплаты после отмены ошибочно введенного отклонен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вод документов-начислений на основании кадровых документов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числение зарплаты, расчет ЕСН и отражение зарплаты в учете для очередного месяц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3600" y="115920"/>
            <a:ext cx="8928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рвисные механизм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932360" y="1413000"/>
            <a:ext cx="4119480" cy="4537080"/>
            <a:chOff x="4932360" y="1413000"/>
            <a:chExt cx="4119480" cy="4537080"/>
          </a:xfrm>
        </p:grpSpPr>
        <p:pic>
          <p:nvPicPr>
            <p:cNvPr id="178" name="" descr=""/>
            <p:cNvPicPr/>
            <p:nvPr/>
          </p:nvPicPr>
          <p:blipFill>
            <a:blip r:embed="rId9"/>
            <a:stretch/>
          </p:blipFill>
          <p:spPr>
            <a:xfrm>
              <a:off x="4932360" y="1413000"/>
              <a:ext cx="411948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932360" y="1413000"/>
              <a:ext cx="4105080" cy="453708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0B80-7C1C-44DB-A917-67FAB8B0C1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рвисные механизм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Групповая обработка элементов справочников и документ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мен документами по электронной почт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усмотрена возможность отправки документов по электронной почт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редства разделения доступа к данны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усмотрена возможность разделения доступа по рабочим местам (ролям) пользователей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F6A1-DABE-4ED1-8446-4C3FB947DE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Новые возможности и преимущества «1С:Зарплата и Управление Персоналом 8» по сравнению с «1С:Зарплата и Кадры 7.7»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5013360"/>
            <a:ext cx="48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пасибо за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учета нескольких организаций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единой баз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для каждой организации ведется своя информационная база дан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данные учета нескольких организаций «уживаются» в одной информационной баз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требуется ввод совпадающих данных для каждой организации отдельно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зические лица, сотрудники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числения, удержания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особы отражения зарплаты в учете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2771640" y="2637000"/>
            <a:ext cx="6193080" cy="396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859280" y="2637000"/>
            <a:ext cx="4032360" cy="38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3348000" y="2589120"/>
            <a:ext cx="561672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863F-4D70-47B4-8469-A747276DE0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учета нескольких организаций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единой базе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возможно ведение учета нескольких организаций с различными системами налогообложения в одной базе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8000" y="3573360"/>
            <a:ext cx="3672000" cy="27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56000" y="2565360"/>
            <a:ext cx="367164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64000" y="3573360"/>
            <a:ext cx="3600720" cy="267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84360" y="3933720"/>
            <a:ext cx="3024360" cy="43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445000"/>
            <a:ext cx="273708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8CDA-EAAF-47F9-B3F5-171B71DB44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учение сводной кадровой аналитической отчетности для нескольких организац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оступна сводная аналитическая информация о работниках всех организаций, учитываемых в единой базе дан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730728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84360" y="4057560"/>
            <a:ext cx="6659640" cy="2800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24360" y="2349360"/>
            <a:ext cx="4968720" cy="273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BA4E-21EF-4543-A22A-794DC0F28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дровые документы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не предусмотрены формы Т-54, Т-10а, Т-10, Т-7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реализованы все унифицированные формы по труду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122560" y="1989000"/>
            <a:ext cx="6697440" cy="455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116000" y="2066760"/>
            <a:ext cx="6912000" cy="453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4788000" cy="3728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24360" y="2895480"/>
            <a:ext cx="52196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2E78-41CA-4FB8-A8B9-0FC85C24F8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инский учет работник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предусмотрен ввод  данных о воинском учете в личную карточку работника формы Т-2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полностью автоматизирован воинский учет и формирование необходимой отчетност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рточка учета организации в военкомате (форма №18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несение о количестве граждан запаса (форма 11/МУ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чет о численности работающих и забронированных граждан запаса (форма №6) и другие отчет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835280" y="3357720"/>
            <a:ext cx="5575320" cy="343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1187280" y="3213000"/>
            <a:ext cx="6802560" cy="3119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1476360" y="2852640"/>
            <a:ext cx="6337440" cy="383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3357720"/>
            <a:ext cx="20509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6F40-B6C0-4587-9EB5-D22AFD2BB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рафики отпуск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8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автоматизированы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егистрация графиков отпуск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счет остатков отпуск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2421000"/>
            <a:ext cx="7129800" cy="444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124000" y="2978280"/>
            <a:ext cx="5184720" cy="34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B9ED-A551-48E4-86BB-1270E9C720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чет использования рабочего времен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0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дусмотрены графики неполного рабочего време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22160" indent="-1998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сокращенной рабочей неделей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2160" indent="-1998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неполным рабочим дне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4172040" cy="549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735E-2EBB-4058-A887-4DB7571A32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4:02:24Z</dcterms:created>
  <dc:creator>0</dc:creator>
  <dc:description/>
  <dc:language>en-US</dc:language>
  <cp:lastModifiedBy>Баратынский Андрей</cp:lastModifiedBy>
  <dcterms:modified xsi:type="dcterms:W3CDTF">2008-12-29T12:19:41Z</dcterms:modified>
  <cp:revision>49</cp:revision>
  <dc:subject/>
  <dc:title>Слайд 1</dc:title>
</cp:coreProperties>
</file>